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10.xml" ContentType="application/vnd.openxmlformats-officedocument.presentationml.comments+xml"/>
  <Override PartName="/ppt/comments/comment4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5.xml" ContentType="application/vnd.openxmlformats-officedocument.presentationml.comments+xml"/>
  <Override PartName="/ppt/comments/comment6.xml" ContentType="application/vnd.openxmlformats-officedocument.presentationml.comments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9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08-02-03T15:22:32.359000000" idx="8">
    <p:pos x="190" y="1960"/>
    <p:text>Good stuff!</p:text>
  </p:cm>
</p:cmLst>
</file>

<file path=ppt/comments/comment11.xml><?xml version="1.0" encoding="utf-8"?>
<p:cmLst xmlns:p="http://schemas.openxmlformats.org/presentationml/2006/main">
  <p:cm authorId="0" dt="2008-02-03T15:25:02.656000000" idx="9">
    <p:pos x="250" y="2728"/>
    <p:text>Our kind of thinking ... not by coincidence :)</p:text>
  </p:cm>
</p:cmLst>
</file>

<file path=ppt/comments/comment2.xml><?xml version="1.0" encoding="utf-8"?>
<p:cmLst xmlns:p="http://schemas.openxmlformats.org/presentationml/2006/main">
  <p:cm authorId="0" dt="2008-02-03T15:05:26.265000000" idx="1">
    <p:pos x="246" y="3265"/>
    <p:text>This is the GEOSS task for the Pilot. </p:text>
  </p:cm>
</p:cmLst>
</file>

<file path=ppt/comments/comment3.xml><?xml version="1.0" encoding="utf-8"?>
<p:cmLst xmlns:p="http://schemas.openxmlformats.org/presentationml/2006/main">
  <p:cm authorId="0" dt="2008-02-03T15:08:28.406000000" idx="2">
    <p:pos x="112" y="2794"/>
    <p:text>This was the product of Pilot 2007! </p:text>
  </p:cm>
</p:cmLst>
</file>

<file path=ppt/comments/comment4.xml><?xml version="1.0" encoding="utf-8"?>
<p:cmLst xmlns:p="http://schemas.openxmlformats.org/presentationml/2006/main">
  <p:cm authorId="0" dt="2008-02-03T15:10:39.546000000" idx="3">
    <p:pos x="142" y="1666"/>
    <p:text>All three activities barely started. </p:text>
  </p:cm>
</p:cmLst>
</file>

<file path=ppt/comments/comment5.xml><?xml version="1.0" encoding="utf-8"?>
<p:cmLst xmlns:p="http://schemas.openxmlformats.org/presentationml/2006/main">
  <p:cm authorId="0" dt="2008-02-03T15:14:15.953000000" idx="4">
    <p:pos x="190" y="1654"/>
    <p:text>A rather meager pool of components and services 
Pilots supposed the main source of registered components and services, but it did not yet happen (DataFed provided many of the registered services). </p:text>
  </p:cm>
</p:cmLst>
</file>

<file path=ppt/comments/comment6.xml><?xml version="1.0" encoding="utf-8"?>
<p:cmLst xmlns:p="http://schemas.openxmlformats.org/presentationml/2006/main">
  <p:cm authorId="0" dt="2008-02-03T15:16:07.656000000" idx="5">
    <p:pos x="124" y="1360"/>
    <p:text>Good thing - from Rhusar perspective</p:text>
  </p:cm>
  <p:cm authorId="0" dt="2008-02-03T15:16:34.046000000" idx="6">
    <p:pos x="124" y="3484"/>
    <p:text>Good thing - from Rhusar perspective</p:text>
  </p:cm>
</p:cmLst>
</file>

<file path=ppt/comments/comment7.xml><?xml version="1.0" encoding="utf-8"?>
<p:cmLst xmlns:p="http://schemas.openxmlformats.org/presentationml/2006/main">
  <p:cm authorId="0" dt="2008-02-03T15:18:10.984000000" idx="7">
    <p:pos x="220" y="3142"/>
    <p:text>Yes! This is what we want. A persistent service integration infrastructure for air quality. 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6282-4D3D-403D-8496-C840CA8AD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7AC5-6BFB-46DA-86BF-5925794B2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A3C8-9DEA-4E53-8F3B-698E9F91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B91-CD6C-4A76-B4E2-8CB56FF6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E87-4511-411E-9567-37F45D41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88C-7E7C-44BB-B5EC-175A2AF6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9D7-949D-4200-8B8C-84F07A47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AEAD-6E2C-48B2-9C79-4929D971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0634-9D4F-4FCE-AEB0-7601F5F6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151-721F-4322-8D30-26DDA83F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202-A9B4-428B-8356-BF03CD35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9B2F-0246-4510-918E-9E33D752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22F-25DC-49BF-A8DE-7AD06B6A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354-7730-4896-ADE6-3C3D48E9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438A-C76B-4528-A654-D544C1B74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685800" y="2895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gcnetwork.net/AIpilot" TargetMode="External"/><Relationship Id="rId2" Type="http://schemas.openxmlformats.org/officeDocument/2006/relationships/hyperlink" Target="http://www.ogcnetwork.net/AIPdemos" TargetMode="External"/><Relationship Id="rId3" Type="http://schemas.openxmlformats.org/officeDocument/2006/relationships/slideLayout" Target="../slideLayouts/slideLayout3.xml"/><Relationship Id="rId4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87680"/>
            <a:ext cx="7331040" cy="17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GEO Architecture and Data Committee</a:t>
            </a:r>
            <a:br>
              <a:rPr sz="2800"/>
            </a:br>
            <a:r>
              <a:rPr b="1" lang="en-GB" sz="3600" spc="-1" strike="noStrike">
                <a:solidFill>
                  <a:srgbClr val="005faa"/>
                </a:solidFill>
                <a:latin typeface="Arial"/>
              </a:rPr>
              <a:t>Architecture Workshop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sted by the European Com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the Joint Researc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r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4360" y="819000"/>
            <a:ext cx="201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F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4852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Breakout Sessions – Summary Findings I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 spectrum of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nd Users (Top level Decision/policy makers, managers) in need of user friendl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searchers more focused on source and quality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ccommodate different needs &amp; level of 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Users versus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ncourage connectivity between the two and between models and data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terative, interactive feedback from users &amp; ability to correct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eed for interoperable cross-domain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mproved connection between modeling and observation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Breakout Sessions – Summary Findings III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02944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oS Architecture key desired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simple, seamles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high availability, reliability, security,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technology evolution &amp; new technology inse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oughts on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ocus on connecting systems within a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Interfaces are abstracted in “wrappers” developed cooperatively by Providers &amp;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Include ontology in Interoperability 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uild a little, test a little: demonstrations, prototypes and  pilots are ess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 look forward- Workshops for 2008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03200" y="2863800"/>
            <a:ext cx="6859800" cy="3282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23520" y="6192720"/>
            <a:ext cx="2536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ra, Ghana -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 Security &amp; Eco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56320" y="2744640"/>
            <a:ext cx="15559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ijing, China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 Quality &amp;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42560" y="2125800"/>
            <a:ext cx="14914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be, Japan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ans &amp; W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26600" y="2114640"/>
            <a:ext cx="17870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bec, Canada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Modeling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1240" y="2133720"/>
            <a:ext cx="17762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ronto, Canada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IC worksh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8360" y="2962440"/>
            <a:ext cx="17917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ston, USA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 Quality &amp; coa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77680" y="2125800"/>
            <a:ext cx="11347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in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GE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8080" y="5791320"/>
            <a:ext cx="2213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nolulu, Hawaii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disaster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71760" y="4019400"/>
            <a:ext cx="62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o many workshops, so little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rchitecture Workshop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meeting to develop requirements for GEOSS Architecture develop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ults will become part of a Call for Participation in 200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cenarios identified through collaboration of the GEO UIC and A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main-specific GEO Tasks can utilize AIP (AR-07-02) to utilize the GEOSS Core Architectur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68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 Pilot Development Approach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300320" y="2463840"/>
            <a:ext cx="1003320" cy="652320"/>
          </a:xfrm>
          <a:custGeom>
            <a:avLst/>
            <a:gdLst>
              <a:gd name="textAreaLeft" fmla="*/ 0 w 1003320"/>
              <a:gd name="textAreaRight" fmla="*/ 1003320 w 1003320"/>
              <a:gd name="textAreaTop" fmla="*/ 360 h 652320"/>
              <a:gd name="textAreaBottom" fmla="*/ 6530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6200" y="3301200"/>
            <a:ext cx="1003320" cy="652680"/>
          </a:xfrm>
          <a:custGeom>
            <a:avLst/>
            <a:gdLst>
              <a:gd name="textAreaLeft" fmla="*/ 0 w 1003320"/>
              <a:gd name="textAreaRight" fmla="*/ 1003320 w 1003320"/>
              <a:gd name="textAreaTop" fmla="*/ -360 h 652680"/>
              <a:gd name="textAreaBottom" fmla="*/ 652680 h 652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572000" y="4140360"/>
            <a:ext cx="762120" cy="652320"/>
          </a:xfrm>
          <a:custGeom>
            <a:avLst/>
            <a:gdLst>
              <a:gd name="textAreaLeft" fmla="*/ 0 w 762120"/>
              <a:gd name="textAreaRight" fmla="*/ 762480 w 762120"/>
              <a:gd name="textAreaTop" fmla="*/ 360 h 652320"/>
              <a:gd name="textAreaBottom" fmla="*/ 6530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35760" y="5180760"/>
            <a:ext cx="1066680" cy="65268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652680"/>
              <a:gd name="textAreaBottom" fmla="*/ 652680 h 652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84800" y="4612320"/>
            <a:ext cx="172548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89480" y="4258800"/>
            <a:ext cx="1708200" cy="337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Phase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017960" y="3174480"/>
            <a:ext cx="1471680" cy="988200"/>
            <a:chOff x="4017960" y="3174480"/>
            <a:chExt cx="1471680" cy="988200"/>
          </a:xfrm>
        </p:grpSpPr>
        <p:sp>
          <p:nvSpPr>
            <p:cNvPr id="135" name=""/>
            <p:cNvSpPr/>
            <p:nvPr/>
          </p:nvSpPr>
          <p:spPr>
            <a:xfrm>
              <a:off x="4017960" y="3520080"/>
              <a:ext cx="1471680" cy="642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ick-o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sh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21200" y="3174480"/>
              <a:ext cx="1468440" cy="337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Phase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366640" y="2731320"/>
            <a:ext cx="156600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33520" y="2387160"/>
            <a:ext cx="1603440" cy="337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Ph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39720" y="1553760"/>
            <a:ext cx="1641240" cy="983520"/>
            <a:chOff x="639720" y="1553760"/>
            <a:chExt cx="1641240" cy="983520"/>
          </a:xfrm>
        </p:grpSpPr>
        <p:sp>
          <p:nvSpPr>
            <p:cNvPr id="140" name=""/>
            <p:cNvSpPr/>
            <p:nvPr/>
          </p:nvSpPr>
          <p:spPr>
            <a:xfrm>
              <a:off x="639720" y="1894680"/>
              <a:ext cx="1636560" cy="642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2960" y="1553760"/>
              <a:ext cx="1638000" cy="3373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Phas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078680" y="5475960"/>
            <a:ext cx="1520640" cy="64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5160" y="5142960"/>
            <a:ext cx="1514160" cy="337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Phas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Core Architectur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nitial Operating Capability (IOC)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 Web Portal, Clearinghouse, and Regis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o register, discover and use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SS Interoperability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2007, GEO ADC guided development of IOC through its core tas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-07-01 - Enabling Deployment of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R-07-02 - Architecture Implementation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demonstrated at EO Summit and GEO-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676520"/>
            <a:ext cx="82296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faa"/>
                </a:solidFill>
                <a:latin typeface="Arial"/>
              </a:rPr>
              <a:t>GEO Task AR-07-02</a:t>
            </a:r>
            <a:br>
              <a:rPr sz="2400"/>
            </a:br>
            <a:r>
              <a:rPr b="1" lang="en-GB" sz="2400" spc="-1" strike="noStrike">
                <a:solidFill>
                  <a:srgbClr val="005faa"/>
                </a:solidFill>
                <a:latin typeface="Arial"/>
              </a:rPr>
              <a:t>GEO Architecture </a:t>
            </a:r>
            <a:r>
              <a:rPr b="1" lang="en-US" sz="2400" spc="-1" strike="noStrike">
                <a:solidFill>
                  <a:srgbClr val="005faa"/>
                </a:solidFill>
                <a:latin typeface="Arial"/>
              </a:rPr>
              <a:t>Implementation Pilot - 2007</a:t>
            </a:r>
            <a:endParaRPr b="1" lang="en-US" sz="24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9216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effective development proc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P, Kickoff, Execu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120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effective communication meth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ternational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gcnetwork.net/AI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duced  Screencasts of Initial Operating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gcnetwork.net/AIPdemo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“Core Architecture Implementation Repo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rchitecture Status 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rchitecture validated through ADC cor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Deployed, tested and demonstrated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Component types and interactions confi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 for Interoperability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t with GEOSS Strategic Guidance Document and Tactical Guidan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rchitectur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perating Capability (IOC)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64 Components &amp; 75 Services registered (21 Nov 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 Web Portals (3), Community Portals (27) and Decision Support Clients (13) for User access to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al organizations capable of provi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 Web Port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SS Clearinghous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rchitecture - Further Developmen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143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e"/>
                </a:solidFill>
                <a:latin typeface="Arial"/>
              </a:rPr>
              <a:t>Increase collaboration with GEO Committees, Communities of Practice and relevant GEO Ta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commitment to Operational requirements to support pers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l, Clearinghouse and oth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Sensor Componen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, acquire and process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calibration scenario, e.g., C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e"/>
                </a:solidFill>
                <a:latin typeface="Arial"/>
              </a:rPr>
              <a:t>Workflow for observation processing and decision support, e.g., Fed Earth Observation (FedEO)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R-07-02 Task Definition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Sheet slightly revised at ADC-5, Septem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Implementation Pilot emphasis retained: Portals, Clearinghouse, Catalogues,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sensors interoperabilit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e"/>
                </a:solidFill>
                <a:latin typeface="Arial"/>
              </a:rPr>
              <a:t>Two item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e"/>
                </a:solidFill>
                <a:latin typeface="Arial"/>
              </a:rPr>
              <a:t>Persistent Infrastructure for Service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e"/>
                </a:solidFill>
                <a:latin typeface="Arial"/>
              </a:rPr>
              <a:t>GEOSS User and Architecture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 Architecture Workshop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4&amp;5,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located at JRC Ispra with ADC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Consensus building in support of C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candidates: interactions with UIC &amp; CoP r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refinement of the CFP-2007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ed operations for information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lementation Report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9880" y="2133360"/>
            <a:ext cx="779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5faa"/>
                </a:solidFill>
                <a:latin typeface="Arial"/>
              </a:rPr>
              <a:t>UIC/ADC Collaboration</a:t>
            </a:r>
            <a:r>
              <a:rPr b="1" lang="en-US" sz="4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sworth LeD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 UIC Co-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38120"/>
            <a:ext cx="5838840" cy="35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llo Dr LeDrew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note from George Pecivall's schedule that you will be discussing the  UIC/ADC Collaboration at the Ispra AIP worksho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air quality community appreciates that ADC and your UIC Committee (Gary Foley,  yourself, Brendan Kelly, and others) is pursuing a strengthened  UIC/ADC connection. The incorporation of an Air Quality scenario into the Pilot is an outstanding opportunity to contribute to that effort as part of a domain-specific Pilot.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your information, the self-organizing group that has prepared the AIP Pilot - Air Quality Scenario appears to be an emerging "Community of Practice" interested in Air Quality applications using the GEOSS Architecture and User Interface Committee principles. A slide from John White's presentation at Ispra has the relevant links. The Air Quality group is keenly interested in perusing and strengthening UIC/ADS link in this scenario through the continued development of the principles and methods for Communities of Practice - and testing those in this Air Quality Pil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put and guidance from Gary Foley, yourself, Brendan Kelly, George Percivall and others will be appreciat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diall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dy Husa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8-02-03T21:35:24Z</dcterms:modified>
  <cp:revision>242</cp:revision>
  <dc:subject/>
  <dc:title>Update on OGC involvement in GEOSS</dc:title>
</cp:coreProperties>
</file>